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BAB3-EB27-4805-9BB3-DE62C6E2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8C6-33BB-42D6-AD55-83622C8F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08A5-3D56-4054-BBD6-DA1A1E87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570E-F5CD-452B-AB4D-4CF85ABD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8B52-8BE3-47B0-BCA3-FC699A37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4828-2A3E-4157-B6C5-8F10DF95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3371-5C68-4894-A75E-1A59EC21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8E57-8832-460F-8947-D30FDE12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E9FC-D4D2-4277-B9F7-2A7E5E20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CECE-D63A-424E-86B9-373A60CB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F0C6-055A-4B2F-974E-578ADA29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CB7D-E6AC-4BA5-A680-B1488B33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088A-B447-4A63-86D2-7B1A5CC6D805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9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ANALYZING NEWCOMER LABOUR MARKET OUTCOMES BY OCCUP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4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om Ziz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oronto Workforce Innovation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pril 14,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Newcomer occupations by skill/sector categories and by educational attainment, Toronto, 1996-2001 and 2000-200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hart 2" descr=""/>
          <p:cNvPicPr/>
          <p:nvPr/>
        </p:nvPicPr>
        <p:blipFill>
          <a:blip r:embed="rId1"/>
          <a:stretch/>
        </p:blipFill>
        <p:spPr>
          <a:xfrm>
            <a:off x="-6480" y="1670040"/>
            <a:ext cx="4737240" cy="4280040"/>
          </a:xfrm>
          <a:prstGeom prst="rect">
            <a:avLst/>
          </a:prstGeom>
          <a:ln w="0">
            <a:noFill/>
          </a:ln>
        </p:spPr>
      </p:pic>
      <p:pic>
        <p:nvPicPr>
          <p:cNvPr id="71" name="Chart 3" descr=""/>
          <p:cNvPicPr/>
          <p:nvPr/>
        </p:nvPicPr>
        <p:blipFill>
          <a:blip r:embed="rId2"/>
          <a:stretch/>
        </p:blipFill>
        <p:spPr>
          <a:xfrm>
            <a:off x="4950000" y="1749600"/>
            <a:ext cx="4065480" cy="404784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762120" y="1219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kill/sector categ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5410080" y="12193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Educational attai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604800"/>
            <a:ext cx="914400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mployed Computer &amp; IT Professionals, Toronto, 2001-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Chart 2" descr=""/>
          <p:cNvPicPr/>
          <p:nvPr/>
        </p:nvPicPr>
        <p:blipFill>
          <a:blip r:embed="rId1"/>
          <a:stretch/>
        </p:blipFill>
        <p:spPr>
          <a:xfrm>
            <a:off x="1736640" y="1504800"/>
            <a:ext cx="5670720" cy="421344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3048120" y="16765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Calibri"/>
              </a:rPr>
              <a:t>TOTAL: 437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5486400" y="16765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Calibri"/>
              </a:rPr>
              <a:t>TOTAL: 435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rcRect l="6976" t="10571" r="31396" b="16698"/>
          <a:stretch/>
        </p:blipFill>
        <p:spPr>
          <a:xfrm>
            <a:off x="304920" y="228600"/>
            <a:ext cx="4419360" cy="4038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81" name="TextBox 4"/>
          <p:cNvSpPr/>
          <p:nvPr/>
        </p:nvSpPr>
        <p:spPr>
          <a:xfrm rot="4284000">
            <a:off x="1108440" y="2881080"/>
            <a:ext cx="67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S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 rot="4320600">
            <a:off x="2968920" y="196128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toria Park 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 rot="5400000">
            <a:off x="2038320" y="127836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wes 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7"/>
          <p:cNvSpPr/>
          <p:nvPr/>
        </p:nvSpPr>
        <p:spPr>
          <a:xfrm flipV="1">
            <a:off x="1600200" y="3123720"/>
            <a:ext cx="2209680" cy="762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 rot="20468400">
            <a:off x="2295000" y="32302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forth 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escent T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876920" y="762120"/>
          <a:ext cx="4114800" cy="2954160"/>
        </p:xfrm>
        <a:graphic>
          <a:graphicData uri="http://schemas.openxmlformats.org/drawingml/2006/table">
            <a:tbl>
              <a:tblPr/>
              <a:tblGrid>
                <a:gridCol w="1752480"/>
                <a:gridCol w="762120"/>
                <a:gridCol w="761760"/>
                <a:gridCol w="838440"/>
              </a:tblGrid>
              <a:tr h="525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ccup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l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mal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nowledge Work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ddle 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rvice E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ddle Wor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orking E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4876920" y="3903840"/>
          <a:ext cx="2514600" cy="2954160"/>
        </p:xfrm>
        <a:graphic>
          <a:graphicData uri="http://schemas.openxmlformats.org/drawingml/2006/table">
            <a:tbl>
              <a:tblPr/>
              <a:tblGrid>
                <a:gridCol w="1752480"/>
                <a:gridCol w="762120"/>
              </a:tblGrid>
              <a:tr h="525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ccup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nowledge Work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ddle 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rvice E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ddle Wor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orking E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sp>
        <p:nvSpPr>
          <p:cNvPr id="89" name="TextBox 14"/>
          <p:cNvSpPr/>
          <p:nvPr/>
        </p:nvSpPr>
        <p:spPr>
          <a:xfrm>
            <a:off x="4876920" y="228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scent T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3733920" y="5105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ro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elect occupations, visible minorities, Toronto CMA, 2006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95280" y="1143000"/>
          <a:ext cx="6172200" cy="2438280"/>
        </p:xfrm>
        <a:graphic>
          <a:graphicData uri="http://schemas.openxmlformats.org/drawingml/2006/table">
            <a:tbl>
              <a:tblPr/>
              <a:tblGrid>
                <a:gridCol w="1123920"/>
                <a:gridCol w="505080"/>
                <a:gridCol w="504720"/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nancial audi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ookkeep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urchasing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ventory cle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uter profession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ne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uth As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8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9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l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lip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95280" y="4038480"/>
          <a:ext cx="6172200" cy="2362320"/>
        </p:xfrm>
        <a:graphic>
          <a:graphicData uri="http://schemas.openxmlformats.org/drawingml/2006/table">
            <a:tbl>
              <a:tblPr/>
              <a:tblGrid>
                <a:gridCol w="1123920"/>
                <a:gridCol w="505080"/>
                <a:gridCol w="504720"/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8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rsing ai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o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curity gu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siting homemak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ne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uth As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8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3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l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3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lip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elect occupations, visible minorities, Toronto CMA, 2006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19320" y="1219320"/>
          <a:ext cx="5486400" cy="2361960"/>
        </p:xfrm>
        <a:graphic>
          <a:graphicData uri="http://schemas.openxmlformats.org/drawingml/2006/table">
            <a:tbl>
              <a:tblPr/>
              <a:tblGrid>
                <a:gridCol w="1193760"/>
                <a:gridCol w="536400"/>
                <a:gridCol w="536760"/>
                <a:gridCol w="536400"/>
                <a:gridCol w="536760"/>
                <a:gridCol w="536400"/>
                <a:gridCol w="536760"/>
                <a:gridCol w="536400"/>
                <a:gridCol w="536760"/>
              </a:tblGrid>
              <a:tr h="58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ght duty clea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xi and limo driv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erial handl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ne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uth As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4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9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l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lip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9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3809880"/>
          <a:ext cx="6553080" cy="2514600"/>
        </p:xfrm>
        <a:graphic>
          <a:graphicData uri="http://schemas.openxmlformats.org/drawingml/2006/table">
            <a:tbl>
              <a:tblPr/>
              <a:tblGrid>
                <a:gridCol w="1191960"/>
                <a:gridCol w="536760"/>
                <a:gridCol w="536400"/>
                <a:gridCol w="534960"/>
                <a:gridCol w="536760"/>
                <a:gridCol w="536400"/>
                <a:gridCol w="534960"/>
                <a:gridCol w="536760"/>
                <a:gridCol w="536400"/>
                <a:gridCol w="535320"/>
                <a:gridCol w="536400"/>
              </a:tblGrid>
              <a:tr h="62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pervis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chine opera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sembl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bour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ne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uth As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8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38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l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lip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7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0" y="228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elect occupations, post-secondary educ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degree from inside or outside Canada, Toronto CMA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66680" y="1676520"/>
          <a:ext cx="6858000" cy="3809880"/>
        </p:xfrm>
        <a:graphic>
          <a:graphicData uri="http://schemas.openxmlformats.org/drawingml/2006/table">
            <a:tbl>
              <a:tblPr/>
              <a:tblGrid>
                <a:gridCol w="1360440"/>
                <a:gridCol w="549360"/>
                <a:gridCol w="550800"/>
                <a:gridCol w="549360"/>
                <a:gridCol w="549360"/>
                <a:gridCol w="550800"/>
                <a:gridCol w="549360"/>
                <a:gridCol w="549360"/>
                <a:gridCol w="549000"/>
                <a:gridCol w="551160"/>
                <a:gridCol w="549000"/>
              </a:tblGrid>
              <a:tr h="61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nancial audi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ght duty clea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xi and limo driv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nufactu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bour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 postsecond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7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stsecondary inside 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6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stsecondary outside 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atio: Outside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ome 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What jobs are available is a consequence of the </a:t>
            </a:r>
            <a:r>
              <a:rPr b="0" i="1" lang="en-CA" sz="3000" spc="-1" strike="noStrike">
                <a:solidFill>
                  <a:srgbClr val="000000"/>
                </a:solidFill>
                <a:latin typeface="Calibri"/>
              </a:rPr>
              <a:t>shape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of labour market dem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Different population groups, like immigrants and newcomers, have different outcomes related to the shape of labour market dem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Those outcomes for newcomers are different outside the rest of Ontario compared to Toron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Visible minority groups are distributed differently across different occup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80880" y="380880"/>
            <a:ext cx="8229600" cy="40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here are over 500 occupations listed in the National Occupational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We can group them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Occupational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  <a:ea typeface="Arial"/>
              </a:rPr>
              <a:t>(e.g. Sales &amp; Service, Manufacturing occup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kil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  <a:ea typeface="Arial"/>
              </a:rPr>
              <a:t>(e.g. require university degree or high school diplo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Broad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828800" y="4495680"/>
          <a:ext cx="5105520" cy="1752840"/>
        </p:xfrm>
        <a:graphic>
          <a:graphicData uri="http://schemas.openxmlformats.org/drawingml/2006/table">
            <a:tbl>
              <a:tblPr/>
              <a:tblGrid>
                <a:gridCol w="2517840"/>
                <a:gridCol w="2587680"/>
              </a:tblGrid>
              <a:tr h="584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MARY SEC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ing, fishing, forestry, m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CONDARY SEC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nufactur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RTIARY SEC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990720" y="2286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hare of the Canadian workforce by class, 1901 to 2001 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(Richard Florida + the Creative Cl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424160" y="1447920"/>
            <a:ext cx="60339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990720" y="228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ector/skil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04920" y="892080"/>
            <a:ext cx="800100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art 4" descr=""/>
          <p:cNvPicPr/>
          <p:nvPr/>
        </p:nvPicPr>
        <p:blipFill>
          <a:blip r:embed="rId1"/>
          <a:srcRect l="0" t="0" r="0" b="-30"/>
          <a:stretch/>
        </p:blipFill>
        <p:spPr>
          <a:xfrm>
            <a:off x="838080" y="1143000"/>
            <a:ext cx="7391520" cy="5562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990720" y="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ector/skill framework applied to Ontario, 1991-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990720" y="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mparison of distribution of jobs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kill categories, Ontario, 1991-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676520" y="1197000"/>
            <a:ext cx="59436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mparison of distribution of jobs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kill categories, Toronto and the rest of Ontario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447920" y="1019160"/>
            <a:ext cx="647676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90"/>
          <p:cNvSpPr/>
          <p:nvPr/>
        </p:nvSpPr>
        <p:spPr>
          <a:xfrm>
            <a:off x="7010280" y="5334120"/>
            <a:ext cx="86688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000000"/>
                </a:solidFill>
                <a:latin typeface="Calibri"/>
              </a:rPr>
              <a:t>RECES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1"/>
          <p:cNvSpPr/>
          <p:nvPr/>
        </p:nvSpPr>
        <p:spPr>
          <a:xfrm>
            <a:off x="1143000" y="1752480"/>
            <a:ext cx="11239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CA" sz="1100" spc="-1" strike="noStrike">
                <a:solidFill>
                  <a:srgbClr val="000000"/>
                </a:solidFill>
                <a:latin typeface="Calibri"/>
              </a:rPr>
              <a:t>000s employ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2"/>
          <p:cNvSpPr/>
          <p:nvPr/>
        </p:nvSpPr>
        <p:spPr>
          <a:xfrm>
            <a:off x="4191120" y="5334120"/>
            <a:ext cx="110484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000000"/>
                </a:solidFill>
                <a:latin typeface="Calibri"/>
              </a:rPr>
              <a:t>CDN $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000000"/>
                </a:solidFill>
                <a:latin typeface="Calibri"/>
              </a:rPr>
              <a:t>STARTS RIS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hart 4" descr=""/>
          <p:cNvPicPr/>
          <p:nvPr/>
        </p:nvPicPr>
        <p:blipFill>
          <a:blip r:embed="rId1"/>
          <a:stretch/>
        </p:blipFill>
        <p:spPr>
          <a:xfrm>
            <a:off x="1182600" y="2054160"/>
            <a:ext cx="6778800" cy="3133800"/>
          </a:xfrm>
          <a:prstGeom prst="rect">
            <a:avLst/>
          </a:prstGeom>
          <a:ln w="0">
            <a:noFill/>
          </a:ln>
        </p:spPr>
      </p:pic>
      <p:sp>
        <p:nvSpPr>
          <p:cNvPr id="59" name="Straight Connector 5"/>
          <p:cNvSpPr/>
          <p:nvPr/>
        </p:nvSpPr>
        <p:spPr>
          <a:xfrm flipV="1">
            <a:off x="4724280" y="20574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6"/>
          <p:cNvSpPr/>
          <p:nvPr/>
        </p:nvSpPr>
        <p:spPr>
          <a:xfrm flipV="1">
            <a:off x="7391520" y="20574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2860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mployment trends by broad sector and skill categori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oronto Census Metropolitan Area, 1997-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8"/>
          <p:cNvCxnSpPr/>
          <p:nvPr/>
        </p:nvCxnSpPr>
        <p:spPr>
          <a:xfrm flipV="1">
            <a:off x="5181480" y="4266720"/>
            <a:ext cx="76680" cy="153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9"/>
          <p:cNvCxnSpPr/>
          <p:nvPr/>
        </p:nvCxnSpPr>
        <p:spPr>
          <a:xfrm flipV="1">
            <a:off x="7161840" y="4114080"/>
            <a:ext cx="7668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Occupations by skill/sector categories, Canadian-born, immigrants and newcomers, Toronto and rest of Ontario, 200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hart 2" descr=""/>
          <p:cNvPicPr/>
          <p:nvPr/>
        </p:nvPicPr>
        <p:blipFill>
          <a:blip r:embed="rId1"/>
          <a:stretch/>
        </p:blipFill>
        <p:spPr>
          <a:xfrm>
            <a:off x="1517760" y="987480"/>
            <a:ext cx="6072120" cy="274932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228600" y="464832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REST OF O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52280" y="18288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TORO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hart 5" descr=""/>
          <p:cNvPicPr/>
          <p:nvPr/>
        </p:nvPicPr>
        <p:blipFill>
          <a:blip r:embed="rId2"/>
          <a:stretch/>
        </p:blipFill>
        <p:spPr>
          <a:xfrm>
            <a:off x="1517760" y="4108320"/>
            <a:ext cx="607212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5:49:21Z</dcterms:created>
  <dc:creator>Tom Zizys</dc:creator>
  <dc:description/>
  <dc:language>en-US</dc:language>
  <cp:lastModifiedBy>sguerra</cp:lastModifiedBy>
  <dcterms:modified xsi:type="dcterms:W3CDTF">2010-04-16T12:24:23Z</dcterms:modified>
  <cp:revision>24</cp:revision>
  <dc:subject/>
  <dc:title>ANALYZING NEWCOMER LABOUR MARKET OUTCOMES BY OCCUPATIONS</dc:title>
</cp:coreProperties>
</file>